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F8FF1-DB31-4311-B81A-6019F6E9F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127E0-19E4-48E9-9008-855926254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B1A22-E160-4774-AD2D-66A277B98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F410F-017F-4447-82A3-BD392FAEC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241641-D48F-4B44-B528-46F065134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55B503-4A5F-44DA-8A5A-00A4EDD5E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74DB85-683A-4A2A-9D79-E138E2A2A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EB34C8-2427-47A2-A904-98986EA6B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139F56-41F5-4549-8389-B295EA505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3BD99A-E575-44A1-B36E-B1B029ED9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9C3CED-A9B6-43DE-B9CF-E9EC968CF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C685A-AFEA-4B79-BD76-DAF4D3EED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27FF98-F6F8-4A92-ABE0-7483A9353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881616-EA21-4CCF-937B-552AD3428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FAAE89-55DC-4BC0-A678-8BEC828B2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6271C9-CBFB-4685-9DEF-82A146DDE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CE9A4E-2E1B-48B6-92CA-3133261A4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B42E9-E3E3-4D76-9B66-19F2DF87F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6637B-E43F-454B-A5FB-7854A10E2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C6268-0072-4704-AF99-AACDFEC95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41261-C626-45A8-9983-71015BB33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19B40-E9E0-4712-9555-ECD1918AB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70AEB-92C8-4943-8DFC-92D738E4B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BBF43-B4A7-41B5-9ACD-3F752F029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D746B-638C-4199-AF88-EA886C566FE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25884-02A9-4D92-B786-6F30260DB33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1371600" y="836280"/>
            <a:ext cx="6400800" cy="43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0000"/>
                </a:solidFill>
                <a:latin typeface="Arial"/>
              </a:rPr>
              <a:t>Учебный проект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0000"/>
                </a:solidFill>
                <a:latin typeface="Arial"/>
              </a:rPr>
              <a:t>Многогранник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9640" y="1052640"/>
            <a:ext cx="8229600" cy="34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5bfb6e"/>
                </a:solidFill>
                <a:latin typeface="Arial"/>
              </a:rPr>
              <a:t>Спасибо за внимание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Arial"/>
              </a:rPr>
              <a:t>Дидактические цели проекта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Формирование понятия у учеников правильного многогранника и его исторические сведения, значимость многогранников в жизн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Приобретение навыков школьников сравнения фактов, самостоятельных оценок событий, объяснения явлений, интерпретирования сведений, а так же научиться связывать изучение темы с другими дисциплинами и темам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Приобретение навыков самостоятельной работы, работы в группах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cc00cc"/>
                </a:solidFill>
                <a:uFillTx/>
                <a:latin typeface="Arial"/>
              </a:rPr>
              <a:t>Основополагающий вопрос</a:t>
            </a:r>
            <a:br>
              <a:rPr sz="4000"/>
            </a:b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2349000"/>
            <a:ext cx="8229600" cy="37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Многогранники, можно ли без них?</a:t>
            </a: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5bfb6e"/>
                </a:solidFill>
                <a:latin typeface="Arial"/>
              </a:rPr>
              <a:t>Проблемные вопросы:</a:t>
            </a:r>
            <a:br>
              <a:rPr sz="4000"/>
            </a:b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0000"/>
                </a:solidFill>
                <a:latin typeface="Arial"/>
              </a:rPr>
              <a:t>1.Полуправильные многогранники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0000"/>
                </a:solidFill>
                <a:latin typeface="Arial"/>
              </a:rPr>
              <a:t>2.Что известно из истории многогранников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Arial"/>
              </a:rPr>
              <a:t>3.Каким образом форма многогранника нашла приложение в архитектуре, живописи и природе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df11a4"/>
                </a:solidFill>
                <a:latin typeface="Arial"/>
              </a:rPr>
              <a:t>Учебные вопросы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5bfb6e"/>
                </a:solidFill>
                <a:latin typeface="Arial"/>
              </a:rPr>
              <a:t>1. Как научиться определять вид и свойства данных многогранников в зависимости от вида многоугольников, из которых он состоит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5bfb6e"/>
                </a:solidFill>
                <a:latin typeface="Arial"/>
              </a:rPr>
              <a:t>2. Каким образом история повлияла на развитие понятий призмы и пирамиды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5bfb6e"/>
                </a:solidFill>
                <a:latin typeface="Arial"/>
              </a:rPr>
              <a:t>3. Где используются многогранники? Можно ли встретить в природе, быту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df11a4"/>
                </a:solidFill>
                <a:latin typeface="Arial"/>
              </a:rPr>
              <a:t>Разбиение класса на группы: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5bfb6e"/>
                </a:solidFill>
                <a:latin typeface="Arial"/>
              </a:rPr>
              <a:t>группа</a:t>
            </a:r>
            <a:r>
              <a:rPr b="1" lang="ru-RU" sz="3200" spc="-1" strike="noStrike">
                <a:solidFill>
                  <a:srgbClr val="5bfb6e"/>
                </a:solidFill>
                <a:latin typeface="Arial"/>
              </a:rPr>
              <a:t> – психологический подход в изучении многограннико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5bfb6e"/>
                </a:solidFill>
                <a:latin typeface="Arial"/>
              </a:rPr>
              <a:t>II</a:t>
            </a:r>
            <a:r>
              <a:rPr b="1" i="1" lang="ru-RU" sz="3200" spc="-1" strike="noStrike">
                <a:solidFill>
                  <a:srgbClr val="5bfb6e"/>
                </a:solidFill>
                <a:latin typeface="Arial"/>
              </a:rPr>
              <a:t> группа</a:t>
            </a:r>
            <a:r>
              <a:rPr b="1" lang="ru-RU" sz="3200" spc="-1" strike="noStrike">
                <a:solidFill>
                  <a:srgbClr val="5bfb6e"/>
                </a:solidFill>
                <a:latin typeface="Arial"/>
              </a:rPr>
              <a:t> – исторический подход в изучении многограннико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5bfb6e"/>
                </a:solidFill>
                <a:latin typeface="Arial"/>
              </a:rPr>
              <a:t>III</a:t>
            </a:r>
            <a:r>
              <a:rPr b="1" i="1" lang="ru-RU" sz="3200" spc="-1" strike="noStrike">
                <a:solidFill>
                  <a:srgbClr val="5bfb6e"/>
                </a:solidFill>
                <a:latin typeface="Arial"/>
              </a:rPr>
              <a:t> группа</a:t>
            </a:r>
            <a:r>
              <a:rPr b="1" lang="ru-RU" sz="3200" spc="-1" strike="noStrike">
                <a:solidFill>
                  <a:srgbClr val="5bfb6e"/>
                </a:solidFill>
                <a:latin typeface="Arial"/>
              </a:rPr>
              <a:t> – каким образом форма многогранника нашла положение в архитектуре, живописи и пррод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5bfb6e"/>
                </a:solidFill>
                <a:latin typeface="Arial"/>
              </a:rPr>
              <a:t>Будет создавать буклет на тему</a:t>
            </a:r>
            <a:r>
              <a:rPr b="1" i="1" lang="en-US" sz="3200" spc="-1" strike="noStrike">
                <a:solidFill>
                  <a:srgbClr val="5bfb6e"/>
                </a:solidFill>
                <a:latin typeface="Arial"/>
              </a:rPr>
              <a:t>:</a:t>
            </a:r>
            <a:r>
              <a:rPr b="1" i="1" lang="ru-RU" sz="3200" spc="-1" strike="noStrike">
                <a:solidFill>
                  <a:srgbClr val="5bfb6e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5bfb6e"/>
                </a:solidFill>
                <a:latin typeface="Arial"/>
              </a:rPr>
              <a:t>“</a:t>
            </a:r>
            <a:r>
              <a:rPr b="1" i="1" lang="ru-RU" sz="3600" spc="-1" strike="noStrike">
                <a:solidFill>
                  <a:srgbClr val="5bfb6e"/>
                </a:solidFill>
                <a:latin typeface="Arial"/>
              </a:rPr>
              <a:t>Полуправильные м</a:t>
            </a:r>
            <a:r>
              <a:rPr b="1" i="1" lang="en-US" sz="3600" spc="-1" strike="noStrike">
                <a:solidFill>
                  <a:srgbClr val="5bfb6e"/>
                </a:solidFill>
                <a:latin typeface="Arial"/>
              </a:rPr>
              <a:t>ногогранники, можно ли без них?</a:t>
            </a:r>
            <a:r>
              <a:rPr b="1" i="1" lang="ru-RU" sz="3600" spc="-1" strike="noStrike">
                <a:solidFill>
                  <a:srgbClr val="5bfb6e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5bfb6e"/>
                </a:solidFill>
                <a:latin typeface="Arial"/>
              </a:rPr>
              <a:t>?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0000"/>
                </a:solidFill>
                <a:latin typeface="Arial"/>
              </a:rPr>
              <a:t>1 группа: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2 группа: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i="1" lang="en-US" sz="3200" spc="-1" strike="noStrike">
                <a:solidFill>
                  <a:srgbClr val="5bfb6e"/>
                </a:solidFill>
                <a:latin typeface="Arial"/>
              </a:rPr>
              <a:t>Будет заниматься созданием презентации, в котором и разместит историческую справку возникновения многогранников. Будет исследовать загадки древност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3 группа: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5bfb6e"/>
                </a:solidFill>
                <a:latin typeface="Arial"/>
              </a:rPr>
              <a:t>Будет проведено анкетирование на тему</a:t>
            </a:r>
            <a:r>
              <a:rPr b="1" i="1" lang="en-US" sz="3200" spc="-1" strike="noStrike">
                <a:solidFill>
                  <a:srgbClr val="5bfb6e"/>
                </a:solidFill>
                <a:latin typeface="Arial"/>
              </a:rPr>
              <a:t>:</a:t>
            </a:r>
            <a:r>
              <a:rPr b="1" i="1" lang="ru-RU" sz="3200" spc="-1" strike="noStrike">
                <a:solidFill>
                  <a:srgbClr val="5bfb6e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5bfb6e"/>
                </a:solidFill>
                <a:latin typeface="Arial"/>
              </a:rPr>
              <a:t>“</a:t>
            </a:r>
            <a:r>
              <a:rPr b="1" i="1" lang="en-US" sz="3200" spc="-1" strike="noStrike">
                <a:solidFill>
                  <a:srgbClr val="5bfb6e"/>
                </a:solidFill>
                <a:latin typeface="Arial"/>
              </a:rPr>
              <a:t>Каким образом форма многогранника нашла приложение в архитектуре, живописи и природе?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4T09:02:34Z</dcterms:created>
  <dc:creator>Ленка</dc:creator>
  <dc:description/>
  <dc:language>en-US</dc:language>
  <cp:lastModifiedBy>Ленка</cp:lastModifiedBy>
  <dcterms:modified xsi:type="dcterms:W3CDTF">2010-06-04T09:26:23Z</dcterms:modified>
  <cp:revision>2</cp:revision>
  <dc:subject/>
  <dc:title>Слайд 1</dc:title>
</cp:coreProperties>
</file>